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CE3-0A54-4479-9D71-36FA4A0A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276-FC62-4878-9B04-AEEEC17E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056-3B38-4FF9-8351-BB568247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0EE-7DD0-45D5-83B2-A01AC0C5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459D-BBB9-42D1-B6E3-9F6D871C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AF7-80C1-49F9-AA78-4E080C07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FA0-2A60-47B3-A40F-B7F828C6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7F5-5DE0-42B7-835A-EC8D1B9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94DC-32C1-480C-93EF-7790483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EAB-32CA-4ABD-A88F-2D1D6FA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663D-34FA-4514-A60B-06FC7FB0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EE4-CD3A-4F44-A408-7A3383B0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9C7D-BB3C-4D91-ABFB-D112E8C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A11A-16F3-4F36-856F-994EEA1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96ED-292E-4424-BF7B-ED11362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9331-CB2B-4DDD-9597-A0CD30A4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BD52-486C-48B3-9085-3746A3B9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22F-F92F-4D92-BA83-211B061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199-090E-4CCF-A869-99085795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EA8-1EB0-4783-BA40-1FE118B2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F3E-8DDB-4C27-A1CF-633C6DB4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E87-FC51-4212-B07F-D3151CE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FB2-EF69-46E7-AF54-AAD7EC5F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89D-34E1-4E01-B06C-F008415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F98-7363-4E9A-9B60-8BFE0E02E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90A1-59DB-495F-A4A9-B06E1BFB8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ный  журнал.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чующие птиц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страница- Кто они кочующие птиц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страница – Классификация кочующих п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траница – Любители полакомиться ряб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страница – Кочующие пев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стран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 «Что? Где? Когд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ификация кочующих птиц по способу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асекомоядные: синицы, поползни, пищухи, король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Зерноядные: чечётки, щеглы, дят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Любители полакомиться рябиной: снегири, свиристели, дрозды- рябин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они – кочующие птиц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342720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ницы, сойки, поползни, пищухи не улетают далеко, а перелетают с  места на место в поисках кор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-342720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егири, щеглы, чечётки радуют нас холодной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юбители полакомиться ряб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еги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рис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озды – рябин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2212920" cy="3444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3511440"/>
            <a:ext cx="2359080" cy="3346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6094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траниц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чующие певц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Щег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Чечё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неги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9880" y="3505320"/>
            <a:ext cx="1414440" cy="222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а «Что? Где? Когд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ую птицу называют  «птица-цветок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то самая маленькая птица нашего лес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Какую птицу назвали за свой писклявый голос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Какая птица бегает по стволу дерева вниз голов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Какая птица делает запасы на зи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Как лакомится рябиной снегир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Какая птица носит название танц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Сколько видов дятлов встречается в нашем лес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Кто такой жел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то из кочующих птиц является хорошим строител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Как едят рябину свиристели и дрозды- рябинни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Кого называют сеятельницей дуб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07T22:43:5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